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F34-798D-4C34-A681-C3C19839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D8B6-5BFE-43E1-8A7D-72446D3F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1A5-020B-4745-8A9F-428B9AB7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C67A-6A4B-42AB-937B-80C163DD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FDFD-6FC0-41F0-BC29-9A55B687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1CE-0C8A-4927-B4C9-4E9A3C3A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BBF-90CB-459C-8446-AE350DF6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9AE8-866A-4902-8E3E-6BB2D862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E479-F0E5-42FC-AB53-DD69E40F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37D-F562-440F-BBDE-A176CD98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AE83-0F58-429D-BC1E-00F93A83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F007-0212-49FD-952E-5952865C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072A-493F-45C2-B29F-F1AC8AD94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computerlab.wikispaces.com/Internet+Safety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cflearnfree.org/internet101/1.2" TargetMode="External"/><Relationship Id="rId2" Type="http://schemas.openxmlformats.org/officeDocument/2006/relationships/hyperlink" Target="http://www.gcflearnfree.org/internetsafety/1.3" TargetMode="External"/><Relationship Id="rId3" Type="http://schemas.openxmlformats.org/officeDocument/2006/relationships/hyperlink" Target="http://www.gcflearnfree.org/internetsafety/1.3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Cla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and Dismissal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ing- Typing I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ake sure your username has grade number-letter and your first and last nam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Safety- Tracking There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15228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Augu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Safety c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ternet Today 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mmon Internet Safety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ivacy Related Safety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l TechKnow (Review Parts I and 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33520" y="304920"/>
            <a:ext cx="33526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16:25:48Z</dcterms:created>
  <dc:creator>dcomputerlab</dc:creator>
  <dc:description/>
  <dc:language>en-US</dc:language>
  <cp:lastModifiedBy>Dawson</cp:lastModifiedBy>
  <dcterms:modified xsi:type="dcterms:W3CDTF">2011-08-30T03:47:41Z</dcterms:modified>
  <cp:revision>10</cp:revision>
  <dc:subject/>
  <dc:title>August</dc:title>
</cp:coreProperties>
</file>